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FAC-589C-4373-AE05-7DD6643D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DD4-9D20-4CC7-944E-70C1FB4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07D-4B4E-4D51-9131-6AE077D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5E6-FB07-4BC5-ABC8-DDE6F036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770-A52B-4BAC-872E-85FB9C6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918-4E43-40BD-B22D-8FF5C71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B2D-D015-4D94-9449-9F65E05B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346-1CC1-4524-A5C0-6DCC21D0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56F-4897-4606-B5F5-122603B5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CAB-6323-4350-8F4E-84E7BCD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D60-8786-45B2-BFCC-AA0A71C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414-C499-425A-B650-03EF7EB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2070-DFA5-4704-B327-885A9C86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ccc?key=pINNryLt_vyDiPyHj11WiDg&amp;hl=en_US&amp;pli=1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: Brainstorm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cussions with W3C folks such as Ralph Swick, Karen Myers, Steve Bratt, Eric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is interested in working with external standards bodies such as HL7 and CDISC and express their content using Semantic Web specification such as RDF and OWL – Steve Bratt at the Bio IT World Lunc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bout W3C being a conten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 Kisler emphasized that since W3C is providing only the languages, a collaboration would be synergistic and would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develop a collaborative interest group with involvement of HL7, CDISC and others – conversation with Ralph S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roposed Solut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886200"/>
            <a:ext cx="121932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5446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8640" y="1828800"/>
            <a:ext cx="1473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438280"/>
            <a:ext cx="1054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226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0920" y="3352680"/>
            <a:ext cx="11300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9400" y="2438280"/>
            <a:ext cx="224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895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67652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4608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Models and Vocabularies used in Clinical Trials Context are different from those used in the Healthcare Deliver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the mapping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lug and Play of different Information Models and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mponent of the key goal of thi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To gain acceptance from a wide variety of stakeholders in the healthcare and clinical trial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/RIM/DCM – seek alignment with healthcar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ISC/SDTM – seek alignment with clinical trial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appings across these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limitations and gaps across thes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quired for 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lated to diabetes an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riven in some part by “mock” diabetes and hypertensio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Step 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Trial Administrator uses the Protocol Specification Interface to specify the eligibility criteria. The data items are specified using element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translates the data items to the appropriate HL7/RIM/DCM re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queries are made to the Mediator/Gatewa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tor/Gateway module translates the query into the underlying database query language. The query is executed at the database and sent to the mapping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retranslates the data into term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igibility Checking Module checks which patients satisfy the eligibility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ed patients are returned to the Clinical Trial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igibility criteria may not be expressible using SPARQL queries and may required ru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: Narrow Scope for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rotocol for implementation #8 (second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Scope to Medications, Lab Tests and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linical Trials Ontology and Clinical Practi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with standards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DF data store based on data requirements and mock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Mapping module using N3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Eligibility checking module using 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demonstrate another use case for Adverse Drug Event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ation of Eligibility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we will use an ontology or rule-based tool to specify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 NLP/Ontology-based approaches that translate free text clinical protocol specifications that transform these into a structur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1 diabe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ketoac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long-term therapy with insulin (&gt;30 days) within the last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 Criteri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requirements for this need to be identified and spec’ed out. For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on clinical data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see if the CT or HC communities have done some work on standards for specifying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oice: Eligibility Criteria as a “layer” around Data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Problem: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: X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: [Date1, Date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=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gt; 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 &lt;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s: Goal/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various data items required for patient recruitment (modulo scop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of requirements on the data content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readsheets.google.com/ccc?key=pINNryLt_vyDiPyHj11WiDg&amp;hl=en_US&amp;pli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ta item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RIM/DC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SDT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DT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terminologies that model some of the values requir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ology Columns including Snomed, MedDRA and NCI Thesa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ata types and values that characterize the values of some of the data ite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and Units columns including those for RIM and 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be considering various constructs of HL7/RIM, Detailed Clinical Models and other models in co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yotishman Pat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uss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 Mo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Rutt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Feigen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 Data Ite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herapy: 10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formation Mode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ceAdministration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 (subClass of ManufacturedMaterial, 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type of Participation called Consumabl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in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.Nam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.Name =&gt; Controlled Vocabulary RxNorm (also known as Terminology Bi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and Times =&gt; TS data type in 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in the definition of data types … taken from the UCU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ethodology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Information Model el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EST, VSTESTCD = SY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controlled vocabul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Snomed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nomed Concept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Data Types a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:P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hoice: Leverage Existing Implementation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Reasoner to compute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DB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NLP parser (if available) to parse the textual representation of the clinical trials criteria into structured queries, rules, what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: Eligibility Criteria in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(hasProblem some DiabetesType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or hasHistory some Ketacid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sTherap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(some Therap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that hasLength all int[&gt;3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nd hasTimePeriod all int[&lt; 36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r illustration purposes … need thorough and detailed analysis to get i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Design: Eligibility Criteria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the_patient.hasProblem = DiabetesTy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_patient.hasHistory = Ket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name =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length &gt;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timePeriod &lt; 3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_patient is eligible for the clinical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ppings always 1-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lways possible to get synonym mapp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these mappings when there are changes in the information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mappings enough to enable a bi-directional flow through between EMR and Clinical trial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value of semantic web (SW) specifications in bridging the divide between clinical practice and clinic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development of a proof of concept (POC) that demonstrates key value propositions of using SW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uy-in from a wide variety of stakeholders as a prelude to acceptance and adoption of semantic web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uy-in for the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de participation and involvement of the key stakeholders in various stages of analysis, design and development of the P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existing standards, terminologies, data and information models of existing communities to increase the probability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been functioning in a consensus driven manner where opinions are sought at each step from all the stakeholders and a decision is taken based on the consensus so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alized that a critical success factor was to incorporate the views of various communities at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1: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evelopment was lead by 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variety of use cases were investigated and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Eve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atient Through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: Focus on Patient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assumed to be in an EM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use of existing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re-use EMR data for Clinical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7/RIM/DCM descriptions may be viewed as a “format” for Clinical Research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healthcare delivery systems and applications is represented or transformed into this “form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ISC/SDTM description may be viewed as a “format” for Clinical Research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clinical trials systems and application is represented or transformed into this form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ask questions in one “format” when the data represented in another “forma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lement functionality to map across these “format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incorporate extensions in th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“plug and play” with multipl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2: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variety of Information Models wer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/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ISC/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linical Models from 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R Ontology (Chimez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Criteria Ontology (H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Delivery Encounter-based Meta Model (Parsa Mirha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ontology/information model is likely to fit the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as closely as possible to existing information model and terminology standards a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gaps and inadequacies in addressing the use case at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eedback to standards groups: CDISC, HL7/RIM, 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: Use CDISC/SDTM, Detailed Clinical Models, HL7/RIM as “seed” ontologies to begi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fine them as gaps and inadequacies are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e Re-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data from the EMR for Clin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existing vocabularies, e.g., NCI Thesaurus, Snomed, Med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pre-existing information models e.g., HL7/RIM/DCM, SD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Re-use software components that can be used to enable a wide range of use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e Drug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a Patient through a Clinical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POC based on an implementation of these re-us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wrappers/tras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checking for elgibility criteria, adverse events and other clinical events of signific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implement POC on a real world data set as opposed to a synthetically created data set. This raised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an appropriate “seed’ Information Model/Ontology to descri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ppropriate terminologies (e.g., Snomed, LOINC, RxNorm) that need to be considered to capture coded informatio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 provided the data and his feedback was crucial in identifying the appropriate “seed” model/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9:01:57Z</dcterms:created>
  <dc:creator>Partners Information Systems</dc:creator>
  <dc:description/>
  <dc:language>en-US</dc:language>
  <cp:lastModifiedBy>Partners Information Systems</cp:lastModifiedBy>
  <dcterms:modified xsi:type="dcterms:W3CDTF">2008-06-23T18:21:01Z</dcterms:modified>
  <cp:revision>35</cp:revision>
  <dc:subject/>
  <dc:title>COI: Functional Requirements</dc:title>
</cp:coreProperties>
</file>